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59E-AF37-4204-A178-38669805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74F-3CFD-436E-A9BC-AC37FD77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EF0-37C9-4365-B4FA-B8F5E150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350-52D0-405C-AB6C-52C0B81E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8B8-6DAB-47F1-9802-46CABC4A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9A8-7766-4652-8EC0-60588087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B05-395F-4969-BCA4-80F010D7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E38-4B26-40E9-A5DB-C31EAF0F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871-CF43-4095-9E94-24EEC1A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2C0-8B25-4C8A-9495-2655552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ED5-7746-4B02-BAFB-CA479546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727-275B-49AF-80B2-07A174A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8D73-F23D-499C-B6AC-3F2795321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az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ch and Ri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5:35:12Z</dcterms:created>
  <dc:creator>freshman</dc:creator>
  <dc:description/>
  <dc:language>en-US</dc:language>
  <cp:lastModifiedBy>freshman</cp:lastModifiedBy>
  <dcterms:modified xsi:type="dcterms:W3CDTF">2008-03-18T15:35:18Z</dcterms:modified>
  <cp:revision>1</cp:revision>
  <dc:subject/>
  <dc:title>Pre-Columbian Civilaztions!</dc:title>
</cp:coreProperties>
</file>